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7D64-BA36-430E-A709-4613364A8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DEBA-20A0-4DE4-BA4F-7D88A079D844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E422-AB28-4462-9AD2-FC6B2E25D7D0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F19B-DB3E-4A2C-903E-541EB549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D04-B1F5-43A1-8746-7C759987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C49D5-716E-44DE-93C4-6D4723D6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8CABF-0198-49AE-952C-D141EAC4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71AD2-22F4-4158-A6FE-30577E54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899EC-4C09-4B71-AF44-629903EA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0E857-DD82-45A6-9898-AAB07AC6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6C049-6EF8-4688-9184-2DD0FD99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17D61-84B7-4BB8-A2C1-4C5C7EBA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D66E1-745A-4A72-87D2-B6C96DE2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98627-442F-48E3-B27C-8F738B1E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AA417-A571-4AAC-8783-E26266F3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B72-ACC7-4FB7-A3C4-55D45BBF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7EF59-C2E0-4766-B55F-86F78B2B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612B8-7AA9-4764-A4E4-1CF431C6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7EB2E-A261-4E57-86DD-F3A1E216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F4045-EEB6-4325-9FBF-39E32FAA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9F1B1-F1BA-4CD9-92CC-5CA446CE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277A5-9882-41E1-8391-98306C2F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E59C8-775B-4D63-8CAB-2AEA2058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8C28C-A00A-462C-8B5A-26F16B7D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DA196-9AFF-4536-9DAD-DA392A93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CB090-5D7B-4EF9-88CF-8F61F1EA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787-4BE9-4285-9DB4-E8114B7E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68C8F-E2D2-465D-B2D0-3D158387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362EF-127C-4705-B811-AAEAA3E1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06E9C-8ECD-41B0-91F3-E5662FB3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9CD29-59AE-4DDB-AC79-54028C62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B5E49-FD96-41DB-84DD-A6EAD049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CC0BF-41A3-46B4-A7B6-5FE88472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9C9D9-ED1A-4D1E-9E3E-2CC5EF2B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437AC-549D-4E5A-8B04-3EBC3293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3E4CE-4BEA-4FB5-BDA8-5FBD9106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A957B-88C4-42B5-9167-263533F4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B77C-D629-4A6D-AE04-F16896E3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90F7A-1CE6-420D-B002-00FCB9F6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AE16D-EFFC-42A9-B0A4-EC520B89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9287F-C23F-4A39-B27C-04A94CAB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97F4F-077A-454A-8971-E2CCC70D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D34EE-E76A-490E-A107-9A74CC50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D6AE1-C2C9-4B30-8E14-42E4A538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A0CB6-6457-4064-8E6C-64EE3C8D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900C0-66FC-48B8-86CF-4A2C2B7C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8037E-713B-475E-8A4E-380DD990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01870-D681-43D8-BAC7-3A81BD9E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BC57-63CA-482E-8BED-413AA9F6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5D5A2-BC37-4832-AF26-922CB23B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9CA1C-1C90-48E5-9116-836FFE14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FC385-97E7-4824-8EE6-AC531224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62B4B-7904-4B55-A6F9-E38B8A4E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92F40-88ED-411F-80D6-831C2E81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252E-F243-438A-9EFA-20A377F1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D614-FC06-42CA-9B10-3C4B4359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1507-04E4-4A14-898F-2A677899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F388-D82C-4EAE-910B-3681FB4A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B135-1C52-4EEC-9237-9FDE82AB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DC1-E50C-4545-9177-F34A9C66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7DC7-ACED-4158-8D2D-58FDFE0D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E9F0-F451-45C8-8A7F-8E51A523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59A8-BABD-4576-B86C-3B8F8D37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6949-94EF-4BBF-9D99-F60C1BB0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6821-417C-4C1E-99FD-B6DCF00E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502B1-DA55-404C-A683-F1DB6300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6A3FC-FD33-4E83-8A99-484F6DCD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3801D-BA58-424A-A53E-B4DEFFAF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426F8-4B4B-4349-A5C8-05969DA1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9C9D1-ACE5-42AA-A939-761057E3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7F2-96E8-4930-B06A-4E425249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56B4-9F46-47CB-A48C-0DDF919C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DC7CF-DE88-4EDB-A925-ABB1D952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B797D-625D-4CC9-95E2-3922AFCB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B91AE-E603-4DD3-904C-7D96016A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DDDEB-81CC-4494-8955-AB8B88FA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D57FB-1CEF-4288-BF93-0AE9DB25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25FF8-3F42-4B43-9C46-E1E66C6E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4197F-562B-4C08-95C3-3375F2DB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7A0FD-63C1-45EC-A8D0-66574388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17AB5-E5FF-43B7-92DD-4870B054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D71-344E-4296-BDFB-E2B54D76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079FB-35F3-429F-899B-B51D8C0F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5E44F-3F9D-41A1-A9F2-BB382739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5FAF6-58B0-41B1-B972-EF845646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EDE92-29E4-4E9E-8B40-9FF25B5F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4FDC1-4822-4F84-9069-B894FA20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B5572-3050-46B5-AE80-7DC913EE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ACB9C-D27A-426E-B433-3963131B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86701-F26C-43C2-B0FD-7CEA9107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0A6FA-E3C3-46E5-A990-9E76E816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010AD-24D1-481F-A79D-DC4B06A3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9EA-1214-46A0-9FBA-6A1003D1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B86C6-2106-43DE-A688-ED8D2B87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C169F-7493-447C-BF44-FF75CEF4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3EC7E-FE00-45BC-A465-BBBAF184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84363-0C55-4F3F-A6F2-103C191C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2FC8F-526F-4E3F-8675-48665788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48F0D-3D11-4187-A72C-A5F5697F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4B564-697E-4564-98E7-7489E9C4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D3DA4-8287-4F04-9D3E-61F7170C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55731-B3B2-4201-B058-019327A1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4BEE7-AB71-4D15-A2CD-4E8FDD9D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1B4-53A4-4278-9F49-15C4A3B8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EA61F-9317-4040-B85C-31C5E3E4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2353C-E568-4619-B652-8B997BC8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392A5-F3B1-49B4-98DA-D1E0243C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94FAD-D51D-4442-96E5-63888216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E8D12-E544-4C7B-B2CB-A64ABB26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E7D52-0707-4413-878E-E4865D4B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5D6A2-1A1F-429E-964C-4EA61B80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EE803-FEEF-471B-9800-C746C4AC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B2572-24B5-4920-8606-7B06ED1A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F21B6-F9C3-4901-A92A-5D777987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CB0-8EE9-4F71-BB73-074DDD20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E5D5C-C79D-4536-87B7-AC46BEED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FCBB4-3689-415A-B35F-DF36C3F3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BD858-F346-481C-869C-CF9C45EE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DBC55-F641-4E52-87E6-A45764AC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0F9CE-F423-4712-90A4-865F28EC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49ABF-B246-4967-A9B9-91E94C13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5E47D-9128-4231-9C8A-BBA9AA9F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CAD78-A18D-4423-A2E1-0EC656A2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46C26-AC79-4D18-BFE3-2C80CE76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91D05-4CCA-4F0B-B816-D19988C1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FE8-5A58-4106-A63D-32C041D0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2E1AB-2B6A-40F8-AE00-092BF6B8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8DB6D-A589-4EA9-83FB-766359BF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5B271-1F1B-49D7-BCD7-825632A3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700E7-E4D7-4EC7-BB0E-9F24603F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5D732-056A-4FE8-A007-73208585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B017D-1325-4F12-9817-9433BA6C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6A2F2-C9EE-48E9-B683-B2FA8A07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340F5-F457-4883-B221-E82B35EF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99053-7F97-4984-AEB8-7A17792F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2D3E2-E665-4EF9-94CE-A24A526B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7DB-6082-43D6-B186-D4A48647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1EAD2-1ABB-4A96-9216-E644A734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7BBB8-F300-4B3D-925D-2AF3F830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FBFF4-102A-4B7B-899B-6EC5A31E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5484C-6DAE-4D98-9D3D-B9DF35F6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B4245-B82C-420A-9EDE-119B63AF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9CA1A-0650-4703-8E53-38697EB4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D1CBE-823E-4210-BC29-0187948C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2D2C6-8125-488A-AF65-A01ACBF7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DCD5B-13B9-4233-8901-B7113FE4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43769-1A1D-4D0E-86BC-18954221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550440" y="6095520"/>
            <a:ext cx="2031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DD80-ADB7-4177-A43E-09F41761F19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84520" y="6095520"/>
            <a:ext cx="4165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50400" y="5317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1174-210A-40AC-BE51-053A65E26D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711360" y="-979200"/>
            <a:ext cx="889668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378000" y="5969160"/>
            <a:ext cx="706608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9240480" y="-243000"/>
            <a:ext cx="324468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7865640" y="1282320"/>
            <a:ext cx="51246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9322560" y="571680"/>
            <a:ext cx="203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D987-313E-4164-961D-5AFA0B0AFF8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863280" y="5162040"/>
            <a:ext cx="396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9394200" y="390240"/>
            <a:ext cx="2617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4D5F-F349-4180-8BF4-62B6AC0D01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1193760" y="-766440"/>
            <a:ext cx="1110924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85320" y="5089320"/>
            <a:ext cx="1137132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11379240" y="3839760"/>
            <a:ext cx="13478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10118880" y="-321840"/>
            <a:ext cx="263520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9328320" y="6238800"/>
            <a:ext cx="203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2236-E5EF-4C42-980E-B05D5D42FE1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7095960" y="6094440"/>
            <a:ext cx="416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10910520" y="3246120"/>
            <a:ext cx="120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44D5-594F-4172-BE92-8EE832F614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1177560" y="-625320"/>
            <a:ext cx="992016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4303440" y="6273720"/>
            <a:ext cx="58608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10212480" y="5459040"/>
            <a:ext cx="228132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8888400" y="-490320"/>
            <a:ext cx="40878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10338840" y="5888160"/>
            <a:ext cx="165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B152-026F-426A-8B16-8D9F8FB602E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6663960" y="6187680"/>
            <a:ext cx="317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10253160" y="5641560"/>
            <a:ext cx="165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4EB4-0195-40A6-A0EF-9D8F8892C2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823680" y="-652320"/>
            <a:ext cx="888696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8224560" y="-441000"/>
            <a:ext cx="416880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9524880" y="2001960"/>
            <a:ext cx="357372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74320" y="3322800"/>
            <a:ext cx="983772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8988480" y="2313000"/>
            <a:ext cx="203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99E5-E6BD-4EA0-85C7-DB853FC9D67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8733600" y="1528920"/>
            <a:ext cx="328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8602200" y="1162080"/>
            <a:ext cx="284508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3F3C-C698-447A-AE5D-2A6711A396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1154160" y="850680"/>
            <a:ext cx="482112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23400" y="-510840"/>
            <a:ext cx="497988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862000" y="6589800"/>
            <a:ext cx="26416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4246200" y="-553680"/>
            <a:ext cx="904392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2253960" y="608040"/>
            <a:ext cx="23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DD00-F4D7-4168-9B84-3E6A6D526AC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4137840" y="6176880"/>
            <a:ext cx="31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687320" y="299160"/>
            <a:ext cx="304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31CB-0039-4296-8B3A-03B602BB34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75960" y="-1017720"/>
            <a:ext cx="988236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1034640" y="2417400"/>
            <a:ext cx="933120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8449920" y="3774960"/>
            <a:ext cx="413712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9771120" y="-104760"/>
            <a:ext cx="313380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9170640" y="3760920"/>
            <a:ext cx="203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11DC-571A-4D06-ACCC-2A0147BD44D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9408600" y="3170160"/>
            <a:ext cx="2568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9567360" y="2660400"/>
            <a:ext cx="91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71C0-81B0-495E-8539-457AD39A6E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1177560" y="-625320"/>
            <a:ext cx="992016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4316400" y="6275520"/>
            <a:ext cx="585000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10213920" y="5462640"/>
            <a:ext cx="227988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8889480" y="-490680"/>
            <a:ext cx="408636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10340280" y="5888160"/>
            <a:ext cx="1655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1A26-C886-480E-9D3A-2FD0C81A298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5405040" y="5494320"/>
            <a:ext cx="4165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10253160" y="5643720"/>
            <a:ext cx="16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56C8-460D-4FBD-8641-8AE7F56A10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1177560" y="-625320"/>
            <a:ext cx="992016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4316400" y="6275520"/>
            <a:ext cx="585000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10213920" y="5462640"/>
            <a:ext cx="227988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8889480" y="-490680"/>
            <a:ext cx="408636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10338840" y="5888160"/>
            <a:ext cx="165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D6E2-C577-4607-8AC7-B6A760ACAF9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5400360" y="5495400"/>
            <a:ext cx="4165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10253160" y="5641560"/>
            <a:ext cx="165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9375-3B4F-45EF-BB9D-60C963BA41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1154160" y="850680"/>
            <a:ext cx="482112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23400" y="-510840"/>
            <a:ext cx="497988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862000" y="6589800"/>
            <a:ext cx="26416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4246200" y="-553680"/>
            <a:ext cx="904392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2255040" y="612360"/>
            <a:ext cx="238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B1D7-24AF-4209-A3B9-3B7DC36FE39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3324240" y="6100560"/>
            <a:ext cx="4070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681920" y="301320"/>
            <a:ext cx="304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37E6-718D-4ADA-854B-EECCFC44BF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496800" y="-1217160"/>
            <a:ext cx="1143792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598320" y="5208120"/>
            <a:ext cx="995976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9589680" y="6483240"/>
            <a:ext cx="25765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10836000" y="91800"/>
            <a:ext cx="250488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10029600" y="5927760"/>
            <a:ext cx="203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E39F-1D13-44D9-8AE7-DCA79A81055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5189040" y="5987520"/>
            <a:ext cx="41655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10130760" y="5570640"/>
            <a:ext cx="95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05AA-090D-43D9-A080-10883644A3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1197000" y="-623880"/>
            <a:ext cx="971712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85320" y="5378040"/>
            <a:ext cx="992520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10213920" y="5459400"/>
            <a:ext cx="227988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8897760" y="-490680"/>
            <a:ext cx="407844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10338840" y="5888160"/>
            <a:ext cx="165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51E9-39C1-4E06-9753-B7EC55CD131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5684400" y="6099120"/>
            <a:ext cx="408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10253160" y="5641560"/>
            <a:ext cx="165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70E1-386B-44CD-AEF1-6BD0B6A5D2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 rot="20700000">
            <a:off x="729720" y="3631680"/>
            <a:ext cx="7980480" cy="160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Rockwell"/>
              </a:rPr>
              <a:t>¿Cuál palabra de vocabulario es?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 rot="20700000">
            <a:off x="2935080" y="5027400"/>
            <a:ext cx="6207120" cy="11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eade"/>
                </a:solidFill>
                <a:latin typeface="Rockwell"/>
              </a:rPr>
              <a:t>1-3</a:t>
            </a:r>
            <a:r>
              <a:rPr b="0" lang="en-US" sz="2400" spc="-1" strike="noStrike">
                <a:solidFill>
                  <a:srgbClr val="f3eade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3eade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3eade"/>
                </a:solidFill>
                <a:latin typeface="Rockwell"/>
              </a:rPr>
              <a:t>2</a:t>
            </a:r>
            <a:r>
              <a:rPr b="0" lang="en-US" sz="2400" spc="-1" strike="noStrike" baseline="30000">
                <a:solidFill>
                  <a:srgbClr val="f3eade"/>
                </a:solidFill>
                <a:latin typeface="Rockwell"/>
              </a:rPr>
              <a:t>nd</a:t>
            </a:r>
            <a:r>
              <a:rPr b="0" lang="en-US" sz="2400" spc="-1" strike="noStrike">
                <a:solidFill>
                  <a:srgbClr val="f3eade"/>
                </a:solidFill>
                <a:latin typeface="Rockwell"/>
              </a:rPr>
              <a:t> Year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ocho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4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una persona que toma las cosas sin permiso. 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El ladrón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nuev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6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“</a:t>
            </a: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Cacahuates” es un ejemplo de esto. 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La tira cómica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diez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información verdadera.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El hecho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onc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0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un verbo. Un mesero en un restaurante hace esto. 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Servir 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doc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90000"/>
              </a:lnSpc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una expresión. Tú la dices cuando ya sabes la información.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¡Ya lo sé!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trec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4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80000"/>
              </a:lnSpc>
              <a:spcBef>
                <a:spcPts val="1001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de4f1"/>
                </a:solidFill>
                <a:latin typeface="Rockwell"/>
              </a:rPr>
              <a:t>Esta palabra describe una persona que sabe mucha información. Esta persona probablemente lee mucho y ve muchas programas informativos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10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6585cf"/>
                </a:solidFill>
                <a:latin typeface="Rockwell"/>
              </a:rPr>
              <a:t>Etar bien informado</a:t>
            </a:r>
            <a:endParaRPr b="0" lang="en-US" sz="4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catorc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6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90000"/>
              </a:lnSpc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un verbo. Es cuando una persona salva la vida de otra persona.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Rescatar 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Rockwell"/>
              </a:rPr>
              <a:t>Número quinc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026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4100" spc="-1" strike="noStrike">
                <a:solidFill>
                  <a:srgbClr val="ffffff"/>
                </a:solidFill>
                <a:latin typeface="Rockwell"/>
              </a:rPr>
              <a:t>Es una palabra que signifíca lo mismo que “propoganda.” Es algo que le da información sobre un producto para venderlo. </a:t>
            </a:r>
            <a:endParaRPr b="0" lang="en-US" sz="41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026"/>
              </a:spcBef>
              <a:spcAft>
                <a:spcPts val="601"/>
              </a:spcAft>
              <a:buClr>
                <a:srgbClr val="0070c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70c0"/>
                </a:solidFill>
                <a:latin typeface="Rockwell"/>
              </a:rPr>
              <a:t>El anuncio</a:t>
            </a:r>
            <a:endParaRPr b="0" lang="en-US" sz="41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6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101347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79bb"/>
                </a:solidFill>
                <a:latin typeface="Rockwell"/>
              </a:rPr>
              <a:t>Materiales  Y Reglas 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218960" y="1234800"/>
            <a:ext cx="10713960" cy="55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57480" indent="-357480">
              <a:spcBef>
                <a:spcPts val="700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de4f1"/>
                </a:solidFill>
                <a:latin typeface="Rockwell"/>
              </a:rPr>
              <a:t>Everyone needs a whiteboard and marker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57480" indent="-357480">
              <a:spcBef>
                <a:spcPts val="700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585cf"/>
                </a:solidFill>
                <a:latin typeface="Rockwell"/>
              </a:rPr>
              <a:t>You will hear and see a description in Spanish. Using your new vocabulary, select the word that is best described by the sentence.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57480" indent="-357480">
              <a:spcBef>
                <a:spcPts val="700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de4f1"/>
                </a:solidFill>
                <a:latin typeface="Rockwell"/>
              </a:rPr>
              <a:t>Write the word down. Do not show your group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57480" indent="-357480">
              <a:spcBef>
                <a:spcPts val="700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585cf"/>
                </a:solidFill>
                <a:latin typeface="Rockwell"/>
              </a:rPr>
              <a:t>When you hear me say “Muéstrame,” show me your answers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57480" indent="-357480">
              <a:spcBef>
                <a:spcPts val="700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de4f1"/>
                </a:solidFill>
                <a:latin typeface="Rockwell"/>
              </a:rPr>
              <a:t>1 pt. – Correct Answer  / 0 pts. – Incorrect answer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57480" indent="-357480">
              <a:spcBef>
                <a:spcPts val="700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eb966"/>
                </a:solidFill>
                <a:latin typeface="Rockwell"/>
              </a:rPr>
              <a:t>Your answer may be logical, but it must match the answer given in order to gain a point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57480" indent="-357480">
              <a:spcBef>
                <a:spcPts val="700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585cf"/>
                </a:solidFill>
                <a:latin typeface="Rockwell"/>
              </a:rPr>
              <a:t>Keep track of your own points. How do you  win? Get the most points in your group! Keep your group members honest!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uno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una persona que ve algo en la tele. 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El televidente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dos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2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la cosa que se usa para sacar una fotografía.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La cámara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tres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4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la persona que salva el día. 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El héroe o la heroina.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cuatro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6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la persona que escribe para un periódico o una revista.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El/la periodista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cinco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90000"/>
              </a:lnSpc>
              <a:spcBef>
                <a:spcPts val="1026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ede4f1"/>
                </a:solidFill>
                <a:latin typeface="Rockwell"/>
              </a:rPr>
              <a:t>Lo que una persona puede ver en la tele por la mañana o por la noche. Le da información importante sobre la comunidad o el mundo. </a:t>
            </a:r>
            <a:endParaRPr b="0" lang="en-US" sz="41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1151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6585cf"/>
                </a:solidFill>
                <a:latin typeface="Rockwell"/>
              </a:rPr>
              <a:t>Las noticias</a:t>
            </a:r>
            <a:endParaRPr b="0" lang="en-US" sz="4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seis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0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la razón que algo ocurre. 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La causa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siet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un verbo. Es el opuesto de vivir.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Morir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3-04-16T13:38:4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4606169991</vt:lpwstr>
  </property>
</Properties>
</file>